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D9B-54A9-4602-B611-0A1B38F1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104-6367-499C-818A-60C4692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FC0-BC1A-46A8-AB65-8340E51A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FD5-F6F5-4E05-82C4-5105C99C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073A2-9D2F-4CBA-8E20-54FAC27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7E544-9899-49F6-90D6-3E2008CC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829A-ED62-4E16-8496-FE52840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4C0C4-99C1-44F0-9717-63CADE35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84155-163D-4646-ACD2-070226C7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0B826-18B5-4CC9-8BE3-0F4EB0F4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BD277-34DB-4DD5-8B6C-DDDF415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1F0-E6F1-4EBF-A6B0-D044B752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F5514-16BF-4901-A8A0-C280C56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CF0B6-2EB4-4438-9E93-2EADF97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6F5D6-3A2B-4D28-88FB-0B487943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C3C60-3A10-402D-A03D-3B0EE11A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AD580-6909-4820-9C5F-417D22C2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04F-601B-4604-81AA-485C558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3C5-57F7-4F9F-86A8-4E46438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57C-5107-4784-8ACC-E05C581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FCF-2AEF-473A-BBE5-6518844D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D0D-167B-4952-B0FD-1D46870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D23-C415-4873-A433-D98C6FFA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CA4-68D5-4860-881D-8AFF89D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A677-0A85-4731-9920-CC69C2872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C7E-FF46-47A8-81D8-7C52EFF452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bhsweb.glenbrook225.org/gbs/science/phys/Class/energy/u5l1c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3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 Membra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5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etic energy of molecules increases as temperature increase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effect do you think an increase in temperature has on diffusion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3657600" y="4419720"/>
            <a:ext cx="1600200" cy="129528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6683" h="21600">
                <a:moveTo>
                  <a:pt x="0" y="0"/>
                </a:moveTo>
                <a:lnTo>
                  <a:pt x="26683" y="0"/>
                </a:lnTo>
                <a:lnTo>
                  <a:pt x="26683" y="21600"/>
                </a:lnTo>
                <a:lnTo>
                  <a:pt x="0" y="21600"/>
                </a:lnTo>
                <a:close/>
              </a:path>
              <a:path fill="lightenLess" w="26683" h="21600">
                <a:moveTo>
                  <a:pt x="0" y="0"/>
                </a:moveTo>
                <a:lnTo>
                  <a:pt x="26683" y="0"/>
                </a:lnTo>
                <a:lnTo>
                  <a:pt x="25283" y="1400"/>
                </a:lnTo>
                <a:lnTo>
                  <a:pt x="1400" y="1400"/>
                </a:lnTo>
                <a:close/>
              </a:path>
              <a:path fill="darken" w="26683" h="21600">
                <a:moveTo>
                  <a:pt x="26683" y="0"/>
                </a:moveTo>
                <a:lnTo>
                  <a:pt x="26683" y="21600"/>
                </a:lnTo>
                <a:lnTo>
                  <a:pt x="25283" y="20200"/>
                </a:lnTo>
                <a:lnTo>
                  <a:pt x="25283" y="1400"/>
                </a:lnTo>
                <a:close/>
              </a:path>
              <a:path fill="darkenLess" w="26683" h="21600">
                <a:moveTo>
                  <a:pt x="26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83" y="20200"/>
                </a:lnTo>
                <a:close/>
              </a:path>
              <a:path fill="lighten" w="26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83" h="21600">
                <a:moveTo>
                  <a:pt x="1334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683" h="21600">
                <a:moveTo>
                  <a:pt x="1334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683" h="21600">
                <a:moveTo>
                  <a:pt x="10765" y="8224"/>
                </a:moveTo>
                <a:lnTo>
                  <a:pt x="14630" y="8224"/>
                </a:lnTo>
                <a:lnTo>
                  <a:pt x="14630" y="15221"/>
                </a:lnTo>
                <a:lnTo>
                  <a:pt x="15918" y="15221"/>
                </a:lnTo>
                <a:lnTo>
                  <a:pt x="15918" y="16144"/>
                </a:lnTo>
                <a:lnTo>
                  <a:pt x="10765" y="16144"/>
                </a:lnTo>
                <a:lnTo>
                  <a:pt x="10765" y="15221"/>
                </a:lnTo>
                <a:lnTo>
                  <a:pt x="12054" y="15221"/>
                </a:lnTo>
                <a:lnTo>
                  <a:pt x="12054" y="9129"/>
                </a:lnTo>
                <a:lnTo>
                  <a:pt x="10765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33:32Z</dcterms:created>
  <dc:creator>PritchaJ</dc:creator>
  <dc:description/>
  <dc:language>en-US</dc:language>
  <cp:lastModifiedBy>PritchaJ</cp:lastModifiedBy>
  <dcterms:modified xsi:type="dcterms:W3CDTF">2011-06-01T15:37:12Z</dcterms:modified>
  <cp:revision>1</cp:revision>
  <dc:subject/>
  <dc:title>Slide 1</dc:title>
</cp:coreProperties>
</file>